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CDEC-800F-4900-AD26-FB79B83F8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3224-E0CF-4221-BE77-6A107063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22A2-D976-4268-9133-26C1CDAF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4160-DB05-454D-9598-025EA5030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B82F-FCA8-4AE3-9803-C414B6081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ED66-A15B-41E3-BBBB-18DFC515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6039-789D-46DD-8982-44BA02B4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B421-44CF-4E4C-A685-C6DAAD70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7C3E-486B-4E10-A705-2C815F72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83D9-E1F4-4229-98E3-537116FA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8EA0-4D46-42AB-999C-BED87691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7CC2-30CC-416A-A535-F5C29AB5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51E6-0936-42A6-946C-671F7982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F29B-300C-4D33-AD1E-7ED34045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5CFA-D346-45E7-8271-26BE334D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7571-BEFD-4C6F-A74F-F0800648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6A7E-0AED-4946-8FFB-E4AA59AE1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1D13-550B-44B5-B0FB-1A950634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DF88-BDA2-4AAB-9FCC-B2220758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922A-B838-452E-8155-A723BA79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44F1-474A-4DB2-8596-6246B378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AEDA-175F-4F8C-876C-FD4EEA30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8637-5620-4838-ADD6-2DA543B5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65B0-537C-40B3-9022-22E024C7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067A-2896-40B6-9D1B-D8854C6BE20C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6183-324A-4967-91DA-C001C3EFF348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e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aly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von Aminosäuregemisch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e Auswahl an Aminosäur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7772400" cy="35812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7000"/>
          </a:bodyPr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alin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Pro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yrosin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Argin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ysin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Cys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835600" y="3765600"/>
            <a:ext cx="2241720" cy="806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209680" y="4917960"/>
            <a:ext cx="1971720" cy="797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286000" y="3591000"/>
            <a:ext cx="1905120" cy="904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5867280" y="2270160"/>
            <a:ext cx="1116000" cy="853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5889600" y="5057640"/>
            <a:ext cx="1349280" cy="885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2438280" y="2465280"/>
            <a:ext cx="1447920" cy="887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676520" y="1600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l, Gly, Tyr, Trp, Glu, Lys, Arg, Cys,  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c8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Nachweis von Argin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4330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Cystein Nachweis mit Fe</a:t>
            </a:r>
            <a:r>
              <a:rPr b="0" lang="de-DE" sz="44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ysteinlösung wird mit Eisen(III)chlorid Lösung  versetzt. Die Lösung wird nach der Entfärbung geschütte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eobachtung nach Versetzen mit Eisen(III)chlorid färbt sich die Lösung blau und entfärbt sich wieder. Schüttelt man die Lösung, färbt sie sich erneut bl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e Entfärbungsreak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xidation:         2  Rest-SH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Rest-S-S-Rest  +  2e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duktion:        2  Fe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+  2e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2  Fe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dox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2 S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-I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+ 2 Fe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2 S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-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+  2 Fe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809720" y="1600200"/>
            <a:ext cx="542916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1T12:06:17Z</dcterms:created>
  <dc:creator>Hortima AG</dc:creator>
  <dc:description/>
  <dc:language>en-US</dc:language>
  <cp:lastModifiedBy>Hortima AG</cp:lastModifiedBy>
  <dcterms:modified xsi:type="dcterms:W3CDTF">2012-10-07T08:10:53Z</dcterms:modified>
  <cp:revision>3</cp:revision>
  <dc:subject/>
  <dc:title>Analyse von Aminosäuregemischen</dc:title>
</cp:coreProperties>
</file>